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C3E-2E64-43DC-987F-627EF31A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33C-8E16-4DC3-BCA0-9FE5753C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2A7-DE05-4CBE-B1B8-576A7B00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6EE-364F-4359-882B-F42E7CA4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DFF-28D2-4413-932E-E5B8B80C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0E9-CB82-4707-A5AD-EDFEF60F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8A8-5BEF-4DF9-BC8B-47A6602C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D5C-9425-49D5-8C23-982F69C7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472-CD85-4265-8B82-4520C868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E6C-6B3E-4999-85F8-D66439E4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B9F-7543-4A1B-A0C3-F40F54D1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BE1-0838-447B-A97F-745E454B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041B-ECF7-4B79-A497-9F65D4EF7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-girl-1" descr=""/>
          <p:cNvPicPr/>
          <p:nvPr/>
        </p:nvPicPr>
        <p:blipFill>
          <a:blip r:embed="rId1"/>
          <a:stretch/>
        </p:blipFill>
        <p:spPr>
          <a:xfrm>
            <a:off x="298440" y="1981080"/>
            <a:ext cx="884556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-girl-2" descr=""/>
          <p:cNvPicPr/>
          <p:nvPr/>
        </p:nvPicPr>
        <p:blipFill>
          <a:blip r:embed="rId1"/>
          <a:stretch/>
        </p:blipFill>
        <p:spPr>
          <a:xfrm>
            <a:off x="204840" y="1981080"/>
            <a:ext cx="89391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-girl-3" descr=""/>
          <p:cNvPicPr/>
          <p:nvPr/>
        </p:nvPicPr>
        <p:blipFill>
          <a:blip r:embed="rId1"/>
          <a:stretch/>
        </p:blipFill>
        <p:spPr>
          <a:xfrm>
            <a:off x="0" y="1905120"/>
            <a:ext cx="87487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-girl-4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78348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-girl-5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354640" cy="478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6:43:33Z</dcterms:created>
  <dc:creator>Degussa AG</dc:creator>
  <dc:description/>
  <dc:language>en-US</dc:language>
  <cp:lastModifiedBy>Letsch Andreas</cp:lastModifiedBy>
  <dcterms:modified xsi:type="dcterms:W3CDTF">2001-11-20T13:32:09Z</dcterms:modified>
  <cp:revision>2</cp:revision>
  <dc:subject/>
  <dc:title>Kein Folientitel</dc:title>
</cp:coreProperties>
</file>